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78E-7301-4067-BCAC-6E14DB4D2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6B90-4834-4B8E-BF5F-2229EFB5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958F-83D4-402D-8B80-E5BD5C25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A706-8CAB-4788-A3DA-4E711FE6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5CD-84FF-4303-88F7-D8660175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BC0-CF5A-4061-B0E4-B51AFBD0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F00A-2AD4-45E6-87F9-C4E0634D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E697-1CB0-4857-B10E-BD181E7C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3DB-3A82-407B-A3A1-C71B151D0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D552-4F21-4027-B61E-4E8D684E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080-3CC4-4153-B3C0-FF813245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F678-1AE7-4AEF-8A84-584514B6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FF5-D1C5-47AB-B50C-A08BADE4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picture of an aba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282-EE1D-4E53-B63C-371144DC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58B0-DE3D-4EEC-AE97-FE7230CB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C966-757A-4F97-A5BC-1B702B38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E7E-5403-420B-BABB-86A3CC19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7B8-0029-4D80-B4B4-4026F1FF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505-F1E9-4752-85A1-CB84EECE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551E-D79D-4938-A131-7009BAB2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BE2-6205-4811-AE9F-998E3BF4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ABD3-3967-4CA9-97FE-6B2550CBF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568-2413-4F2E-85A9-A3C55E24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5CC4-3607-42F0-9741-9B41E80E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62F5-30AF-4F4D-9694-30B34CD2C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10B4-4ACF-4CE1-9D61-4DEF36D5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9CB-6479-4E70-8097-7B6E7157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CA5E-E9EB-4F9E-986C-C78EC3E3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0EA8-C974-4CC7-AA3D-E5BBFE3F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866-DAAF-4B39-9403-612C2200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8DB7-B529-42FB-9BE1-3542213A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E688-C831-4FFB-93E7-3D495190C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1DA4-E18F-417D-A9AC-6EB9FDDD1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3289-452B-43E2-8CFC-9427BF6D2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95B1-1476-4D06-B963-A0A4C1CC5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FD4D-4A7E-44AA-8E98-D1E0253C1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B076-D00D-461F-A278-86302E938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F9B4-EAB8-4742-9EC1-D4229FDC8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F21B-06C3-45CD-8AB5-428A2950E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2F7F-58E9-4477-8F8B-304803441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EF7F-5A5B-4317-90F7-297CFB19B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529C-7605-4D44-BCB5-3633227E4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DFA6-FDBC-4275-A637-EFD1EF85E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00440"/>
            <a:ext cx="457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EE26-AB76-475E-AEA4-941F05E7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class.vaniercollege.qc.ca/web/mathematics/real/Calculators/BaseConv_calc_1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4038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960" y="2743200"/>
            <a:ext cx="419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nary Values and Numb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C13D-B588-49AE-8A0F-A2E42FF472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09480" y="1905120"/>
            <a:ext cx="678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 is base 10 and has 10 digit symbo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0,1,2,3,4,5,6,7,8,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is base 2 and has 2 digit symbo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0,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609480" y="43434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number to exist in a given base, it can only  contain the digits in that base, which range from 0 up to (but not including) the ba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bases can these numbers be in?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122, 198, 178, G1A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00C-F5A7-4590-BF39-0EF99826EE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0948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are digits in bases higher than 10 represent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85800" y="3276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istinct symbols for 10 and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16 has 16 dig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0,1,2,3,4,5,6,7,8,9,A,B,C,D,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s Higher than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687C-E17D-4DC5-A7BC-EE45C749A41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0948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decimal equivalent of the octal number 642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914400" y="3352680"/>
            <a:ext cx="64008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8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6 x 64   = 3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 x 8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4 x  8   =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 x 8º  =   2 x 1   =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18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Octal to 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4DF-50FC-41BB-B639-6446FA1FA9A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09480" y="2057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decimal equivalent of the hexadecimal number DEF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14400" y="3429000"/>
            <a:ext cx="6934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x 16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3 x 256 = 33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E x 16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4 x  16  = 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F x 16º  =  15 x 1     =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3567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3520" y="5410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 the digit symbols in base 16 are 0,1,2,3,4,5,6,7,8,9,A,B,C,D,E,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Hexadecimal to 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F05-C3B9-4E01-914F-CAA080798A3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decimal equivalent of the binary number 1101110?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62120" y="2895480"/>
            <a:ext cx="716256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64  = 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32  =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0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0 x 16 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8   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4    =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2    = 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0 x 2º  =  0 x 1   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10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Binary to 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CE8F-AD2C-4821-937E-E8FC081BEC3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09480" y="1523880"/>
            <a:ext cx="77724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there are only 2 digit symbols in binary, 0 and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+ 1 is 0 with a car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6019920" y="3581280"/>
            <a:ext cx="2438280" cy="1143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y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295280" y="4114800"/>
            <a:ext cx="4419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0 1 1 1 1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0 1 0 1 1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+1 0 0 1 0 1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1 0 1 0 0 0 1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457164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ithmetic in 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E32-232B-45C0-9B5D-ABDBD2BBDFC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09480" y="1905120"/>
            <a:ext cx="7772400" cy="39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member borrowing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pply that concept he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0 1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1 1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  1 1 1 0 1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0 1 1 1 0 0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tracting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2E4D-E0F1-4063-BB4D-55C97990E8F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ing in Power-of-2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2004840" y="1295280"/>
            <a:ext cx="51343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B8D-7307-4EC8-AF51-F962A983B0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9"/>
          <p:cNvSpPr/>
          <p:nvPr/>
        </p:nvSpPr>
        <p:spPr>
          <a:xfrm>
            <a:off x="914400" y="1676520"/>
            <a:ext cx="70866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group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righ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10101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01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2    5    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011 is 253 in base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Binary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4A2D-3CE8-4226-B561-B02FE8106E5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9480" y="2209680"/>
            <a:ext cx="71629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group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righ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10101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11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A      B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011 is AB in base 1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Binary to Hexa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3238-8623-4B87-8302-B8258B234DB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33520" y="4267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amo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ateg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si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in other bases to 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numbers to numbers in other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lationshi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bases 2, 8, and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to computing of bases that ar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wers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027A-81EB-4BAA-8558-D41B58766A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91440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914400" y="213516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990720" y="1600200"/>
            <a:ext cx="731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y som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class.vaniercollege.qc.ca/web/mathematics/real/Calculators/BaseConv_calc_1.h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ac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DB15-006B-4BDC-B4D6-7953EDCB051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990720" y="1233360"/>
            <a:ext cx="71625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31F-580A-4E26-B18B-5F28E86B6F5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80880" y="3124080"/>
            <a:ext cx="792504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While (the quotient is not zer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  <a:ea typeface="ＭＳ Ｐゴシック"/>
              </a:rPr>
              <a:t>Divide the decimal number by the new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  <a:ea typeface="ＭＳ Ｐゴシック"/>
              </a:rPr>
              <a:t>Make the remainder the next digit to the left in the ans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  <a:ea typeface="ＭＳ Ｐゴシック"/>
              </a:rPr>
              <a:t>Replace the original decimal number with the quo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09480" y="1676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 for converting number in base 10 to other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ther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F80-F463-48C7-9F6F-3FEBB77F42B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91440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14400" y="213516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990720" y="160020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is 1988 (base 10) in base 8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7AD0-26A5-44BD-B77F-6F6B821A0B1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91440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213516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066680" y="1752480"/>
            <a:ext cx="723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3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19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8  248        8  31          8 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7            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 7 0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685800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3505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5029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6553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7C4-83FA-4074-928F-2C96D581680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914400" y="259092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3567 (base 10) in base 16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y i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Hexa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185-0F4B-4C34-ADF2-30C278ACEC5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0720" y="2057400"/>
            <a:ext cx="678168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3        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 356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 222           16  1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4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228600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228600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886200" y="2057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 flipH="1">
            <a:off x="42670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4267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V="1">
            <a:off x="6248520" y="243792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62485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350532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E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Hexa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8B49-5BC6-45D3-A807-48FA553FFC4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609480" y="1905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have storage units call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inary dig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838080" y="3124080"/>
            <a:ext cx="71629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oltage =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oltage = 1           all bits have 0 or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Numbers and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480" y="510552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the other way around, but we don’t need to worry about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F0E5-FB4A-40E4-AB29-70B1D13FE79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09480" y="190512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y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bits in 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or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or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eng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omputer, which is usually a multiple of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-bit machi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-bit machines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and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25CE-5F64-424F-906F-98C38BE0368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698400" y="1447920"/>
            <a:ext cx="7747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F90B-CC02-4597-B9F8-4087846B91A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9480" y="205740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tural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and any number obtained by repeatedly adding one to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 100, 0, 45645,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85800" y="5638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480" y="4481640"/>
            <a:ext cx="7772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egative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lue less than 0, with a – 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-24,  -1, -45645, -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C50-A95A-4D98-BB95-C575EE87CF3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53352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Constantia"/>
              </a:rPr>
              <a:t>The FISA Cou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at does the United States Foreign Intelligence Surveillance Court do?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en did most people first hear of the FISA Court?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at checks and balances are there between the FISA Court and other government entities?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at is the stated intent of the FISA Cour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CBAD-DDC8-40BE-9839-9690D6B38AD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34120" y="2438280"/>
            <a:ext cx="27432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you tell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son s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 to you th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gs about me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rcRect l="3334" t="2261" r="3295" b="0"/>
          <a:stretch/>
        </p:blipFill>
        <p:spPr>
          <a:xfrm>
            <a:off x="654120" y="1436760"/>
            <a:ext cx="33987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ACDB-4F05-4F19-97F6-2732161C805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you know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752480" y="2209680"/>
            <a:ext cx="4648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160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447920" y="2685960"/>
            <a:ext cx="62481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concept makes positional not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three sets can pre-school children identify?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words represent the third s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es an abacus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es bi-quinary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E9C6-481D-4DE3-B49D-1A08DC86D00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09480" y="2133720"/>
            <a:ext cx="7772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nte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ural number, a negative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 249, 0, - 45645, -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480" y="3962520"/>
            <a:ext cx="7772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ational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er or the quotient of two integ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-249,  -1, 0, 3/7, -2/5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532-ED0C-43F7-BDA9-7AFA3CD31D8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3352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0948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many ones are there in 642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447920" y="2819520"/>
            <a:ext cx="609588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 + 40 + 2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 + 32 + 2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36 + 64 + 2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BF21-C7BA-43D3-BDEC-3A1D047E787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09480" y="19051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a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2  is 600 + 40 + 2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number determines the number of different digit symbols (numerals) and the values of digit pos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1F1-0EBC-4104-B2C6-812A1D33311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480" y="1905120"/>
            <a:ext cx="8153640" cy="271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ng with our exampl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2 in base 10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10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6 x 100   = 6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 x 10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 4 x 10    = 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 x 10º  =    2 x 1     = 2      = 642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600200" y="411444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57200" y="5257800"/>
            <a:ext cx="2514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number is 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 flipH="1" flipV="1">
            <a:off x="2819520" y="40384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657600" y="4648320"/>
            <a:ext cx="29718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indic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ition o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E344-027F-4990-AEAA-B85A85A553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990720" y="2819520"/>
            <a:ext cx="655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...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formu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85800" y="5562720"/>
            <a:ext cx="5334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2 is   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 4 *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 2 *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181480" y="1295280"/>
            <a:ext cx="228600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 is the bas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380880" y="3962520"/>
            <a:ext cx="3048120" cy="1295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is the number o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s in 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5562720" y="3962520"/>
            <a:ext cx="327636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 is the digit in th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i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15238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H="1" flipV="1">
            <a:off x="5562720" y="3276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3885840" y="20574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119-420B-446D-A176-790B5CC4F01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609480" y="1905120"/>
            <a:ext cx="77724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f 642 has the base of 13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2 in base 13 is equivalent to 106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base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990720" y="2666880"/>
            <a:ext cx="67053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6 x 13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6 x 169   = 10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 x 13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 4 x 13    = 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 x 13º  =    2 x 1     =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1068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47:45Z</dcterms:created>
  <dc:creator>theresad</dc:creator>
  <dc:description/>
  <dc:language>en-US</dc:language>
  <cp:lastModifiedBy>Taylor Ferracane</cp:lastModifiedBy>
  <dcterms:modified xsi:type="dcterms:W3CDTF">2014-11-25T14:07:59Z</dcterms:modified>
  <cp:revision>61</cp:revision>
  <dc:subject/>
  <dc:title>PowerPoint Presentation</dc:title>
</cp:coreProperties>
</file>